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AE1E-A141-486E-ABD9-E713A1B54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B680-4C19-48DE-887C-9403039B6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E9F-0076-4284-AFC4-9CD86DB2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C3A-58FF-4BF8-857D-B38CC8A3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173-30A4-4BC2-BC17-A3ECEA1D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A9B-A35A-41FF-986D-C95B41BB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8D04-C7BD-4AF3-926B-2A34EADE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8098-94E1-4A7D-A774-B91266D4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B6AC-F159-4F47-B5E0-3184BEFD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7178-AB37-48B3-8C90-17AE527B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549-A8EB-4423-9F38-7DD8FDCF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173-D156-4EF3-88FA-437E3570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DF9D-E1A9-4D68-8620-D6CDA97F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760D-1F21-4ED6-AB13-50989B85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6BBB-CC36-4F89-88BC-61817ABF8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abriela Rami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abriela Ramire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Gabriela Ramir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Gabriela Ramirez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Gabriela Ramir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i nombre es Gabriela. Yo vivo en Nueva York. Tengo catorce años. Yo tengo seis hermanos. Yo soy calmada y am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amiga                                                          Gab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Gabrie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amiga. Como est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Shar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, bien gracias, quieres comprar comida conmig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57:37Z</dcterms:modified>
  <cp:revision>104</cp:revision>
  <dc:subject/>
  <dc:title>Profile</dc:title>
</cp:coreProperties>
</file>